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915-54C6-44D0-AE4E-BD56D9A6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42670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73E-1A24-4885-959B-B8AEC379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832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55F-AEC8-42E2-8F76-BB078621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708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0100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708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0100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374-D28C-4AF9-863B-14A60B48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6202-92B9-45BC-A1DA-1B43C137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E58A-64F8-4D7D-B04C-41B7FD51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BACC-71F2-44E7-8A2C-22EDA3F0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1CF2-E98A-4688-BA76-D8E3CE9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15F2-1C66-46A5-9DF0-15DF0557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9F93-457B-46EF-A717-D25784FF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27F5-15CB-4969-8EA8-ACD4204A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848-F153-4790-A3EC-BD335D4F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832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9C49-18C2-417A-A5A1-3F81B4C3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DBB7-2433-4778-8D70-62F7A77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160" y="42670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1B65-F892-4AB8-A0F1-30C1527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2832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F538-21B6-46F5-B9EA-11DA136E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708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01000" y="160020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16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708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01000" y="42670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8A4F-D032-4D5A-92EB-7E7AD64E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56E-15FA-4D9F-9A5D-8ACBED82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968-347C-4D89-8598-961823BC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1D9-4F45-4C83-A689-BF45FA10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381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32A-02BB-4422-9D59-9DF4D55D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D00-A84C-4164-9966-6943DB6F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8320" y="42670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106-EA89-4604-9C4C-E0E4787E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8320" y="16002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2670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A15-7239-4B65-AA6C-8C9EE3A0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8F62-1824-4DA1-A29D-96BBED6CEE4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10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1001"/>
              </a:spcBef>
              <a:buClr>
                <a:srgbClr val="b0ae6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10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1001"/>
              </a:spcBef>
              <a:buClr>
                <a:srgbClr val="b0ae6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1001"/>
              </a:spcBef>
              <a:buClr>
                <a:srgbClr val="5b524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B728-7123-44E7-BACF-A1C5BB38CBA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terdependent Relationshi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When animals die, they decompose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The decomposition process releases minerals back into the soil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Plants can use these minerals for growth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Air and Wind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 atmosphere is the area surrounding the Earth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ir is the mixture of gases that surrounds the Earth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ind is the movement of the air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ater vapor, gases, and particulate can be found in the atmosphere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Air and Wind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 conditions found in the atmosphere are what causes weather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eather is the condition of the atmosphere, including moisture, temperature, movement, and pressure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Air and Wind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 climate of an area helps determine which natural resources can survive in the area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Climate is the condition of the weather in a particular location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19" name="Picture 5" descr="wind-f5"/>
          <p:cNvPicPr/>
          <p:nvPr/>
        </p:nvPicPr>
        <p:blipFill>
          <a:blip r:embed="rId1"/>
          <a:stretch/>
        </p:blipFill>
        <p:spPr>
          <a:xfrm>
            <a:off x="7162920" y="4876920"/>
            <a:ext cx="1782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Fossil Fuel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ssil fuels are natural resources used to provide energy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ssil fuels took millions of years to make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y are the remains of decomposed plants and animals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eir energy comes from the energy produced by the plants and animals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Fossil Fuels Grou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Petroleum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Natural ga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oal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24" name="Picture 5" descr="petroleum"/>
          <p:cNvPicPr/>
          <p:nvPr/>
        </p:nvPicPr>
        <p:blipFill>
          <a:blip r:embed="rId1"/>
          <a:stretch/>
        </p:blipFill>
        <p:spPr>
          <a:xfrm>
            <a:off x="5410080" y="3352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Petroleum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Liquid form of fossil fuels used to make gasoline and oils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Ga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Gaseous form of fossil fuels used in heating and cooking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29" name="Picture 5" descr="2002-05-31-natural-gas"/>
          <p:cNvPicPr/>
          <p:nvPr/>
        </p:nvPicPr>
        <p:blipFill>
          <a:blip r:embed="rId1"/>
          <a:stretch/>
        </p:blipFill>
        <p:spPr>
          <a:xfrm>
            <a:off x="1828800" y="3733920"/>
            <a:ext cx="2590920" cy="229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tural-gas-form"/>
          <p:cNvPicPr/>
          <p:nvPr/>
        </p:nvPicPr>
        <p:blipFill>
          <a:blip r:embed="rId2"/>
          <a:stretch/>
        </p:blipFill>
        <p:spPr>
          <a:xfrm>
            <a:off x="4724280" y="3733920"/>
            <a:ext cx="407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Coal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olid form of fossil fuels used in factories and generating electricity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33" name="Picture 5" descr="coal"/>
          <p:cNvPicPr/>
          <p:nvPr/>
        </p:nvPicPr>
        <p:blipFill>
          <a:blip r:embed="rId1"/>
          <a:stretch/>
        </p:blipFill>
        <p:spPr>
          <a:xfrm>
            <a:off x="3352680" y="3962520"/>
            <a:ext cx="2667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Mineral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Natural inorganic substances on or in the earth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re not living things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Mined from the earth and are used to produce everything from iron to brick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Jewelry, coins, monuments, and concrete are also made from minerals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biosphere"/>
          <p:cNvPicPr/>
          <p:nvPr/>
        </p:nvPicPr>
        <p:blipFill>
          <a:blip r:embed="rId1"/>
          <a:stretch/>
        </p:blipFill>
        <p:spPr>
          <a:xfrm>
            <a:off x="5029200" y="3311640"/>
            <a:ext cx="4114800" cy="3546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Occur naturally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Found in our environmen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Environment = the conditions that surround u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Help determine how other natural resources are used. 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As the population increases, natural resource use will increase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 wise use of resources is necessary to ensure their future availability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Soil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Outer layer of the earth’s surface that supports life.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lants grow in soil, humans and other animals eat plants, humans and animals produce waste that provides nutrients for plants to grow, and the cycle continues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However, soil can be easily eroded by misuse.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oil must be protected in order for it to continue to be a resource.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Sunlight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The source of almost all the energy used on the Earth.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The light from the sun produces solar energy.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lants use this energy in the process of photosynthesis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eople can also use this energy if it is harnessed using solar collectors.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 tasteless, colorless, liquid natural resource.  All living things need water to survive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ater is a naturally occurring compound made up of two atoms of hydrogen and one atom of oxygen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ater can be found in three forms, solid, liquid, and gas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44" name="Picture 5" descr="splash-of-single-drop-in-still-water-pink-and-cyan-rotated-and-cropped-AJHD"/>
          <p:cNvPicPr/>
          <p:nvPr/>
        </p:nvPicPr>
        <p:blipFill>
          <a:blip r:embed="rId1"/>
          <a:stretch/>
        </p:blipFill>
        <p:spPr>
          <a:xfrm>
            <a:off x="6629400" y="0"/>
            <a:ext cx="1527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ater Cycl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10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Movement of water from the earth’s surface to the atmosphere and back to the surface.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ater is continuously renewed through the hydrologic cycle.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807080" y="1600200"/>
            <a:ext cx="4108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ildlif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All of the plants and animals that live in the wild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hese plants and animals have not been domesticated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Domestication is the control of plants and animals by man.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Food Web Activity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Pick a community within an ecosystem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Draw a food web showing the relationships within the community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hould have at least three food chain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Be sure to draw the environment in detail besides the organism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Food Web Activity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Label each of the following in your food web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biotic and biotic part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The dominant specie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quatic or terrestrial ecosystem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here competition and predation takes place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Herbivores, carnivores, omnivore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06200" indent="-44604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hat does it mean?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Adaptation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uccession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election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Homeostasi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Biom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Adaptation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Organism’s ability to tolerate change in its environmen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Necessary for survival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Occurs because the species goes through change over tim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NOT made by man, but man can help ensure their continued existenc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ome are essential others are used to make life easier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Succession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Replacement of one community by another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Occurs naturally over tim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an be altered by human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Selection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Survival of organisms that are best adapted to their environment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Many changes occur through genetic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Homeostasi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Process in which organisms maintain a constant internal environment when the external environment change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Homeotherms (warm-blooded or endotherms) - can maintain a constant body temperatur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Poikilotherms (cold-blooded or ectothermic) – cannot maintain a constant body temperatur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Biom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Area made up of a distinct combination of plants and animal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Made up of the groups of ecosystems found on earth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terrestrial or aquatic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Examples: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RAFT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Rol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ick one: tree, soil, water, or air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Audienc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Local residence or local politicians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Letter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Inform them of the your importance and what is happening to you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ersuade them to help you survive because you are important to them 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Things to includ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hat biome and ecosystem are you a part of?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hat is your importance?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996120" indent="-44172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Remember food webs, your relationship with other natural resources (interdependence), and how are humans dependent on you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How are you in danger?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hat can be done to help?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43160" indent="-44316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Week 9/7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What do you already know about your topic?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What are some things you would like to find out about your topic?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Could all your aunts, uncles and cousins live with you?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3960"/>
            <a:ext cx="83059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rite down the number of people in your immediate family.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ount the number of aunts, uncles, cousins, and grandparents you have. 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Add this to the number of people in your immediate family.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What would happen if you all had to live in one house?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onsider the amount of room that many people would take up and how much food and water they’d need.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Human use of 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Meet their three basic needs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Clothing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helter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Can be consumptive use and non-consumptive us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Consumptive Us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Using a natural resource so that the amount used no longer exists.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Each time that resource is used, its supply is reduced.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Example = hunting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Once that animal is killed and removed from the wild, it no longer exists.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atural Resources Grou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ir and wind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Fossil fuel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Mineral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oil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unlight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Wildlife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Non-consumptive Use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Using a natural resource without reducing its supply 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n example of non-consumptive use is watching wildlife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Human Population Trend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Population = number of people in a given area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urrent world population = 6.86 billion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redicted to double in the next 50 years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urrent US population = 310 million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82" name="Picture 1028" descr=""/>
          <p:cNvPicPr/>
          <p:nvPr/>
        </p:nvPicPr>
        <p:blipFill>
          <a:blip r:embed="rId1"/>
          <a:stretch/>
        </p:blipFill>
        <p:spPr>
          <a:xfrm>
            <a:off x="4808520" y="1828800"/>
            <a:ext cx="4183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Land-use Planning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eciding how land will be use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ncludes guidelines on how to use the land for agricultural, commercial, and residential areas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Urban areas rely on rural areas to provide them with quality water, a consistent food supply, and materials to build their homes.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Rural areas depend on urban areas to do their best to keep the environment clean and healthy.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Recycling and Reusing Natural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Demand for natural resources can be reduced if we recycle and/or reuse the ones we currently use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Can ensure the sustainability of natural resources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ustainability = going about life so that resources are available for future generations to us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a3d7a"/>
                </a:solidFill>
                <a:latin typeface="Arial"/>
              </a:rPr>
              <a:t>Renewable vs. Nonrenewable Resources</a:t>
            </a:r>
            <a:endParaRPr b="0" lang="en-US" sz="3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Renewabl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an be replaced after us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Soil, plants, and water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Nonrenewable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Cannot be replaced after use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Minerals and fossils fuels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exhaustible vs. Exhaustible Resource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Inexhaustibl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ontinuously replenished, the supply of the resource will not run out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Sunlight, wind, and water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xhaustibl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Available in limited quantity and can be completely used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Can be replaceable or irreplaceable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Replaceable = can be replenished (wildlife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Irreplaceable = gone once it is used (fossil fuels and most minerals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terdependent Relationshi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10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ll natural resources depend on each other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8e271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This means that all living things depend on each other.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807080" y="1600200"/>
            <a:ext cx="4108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terdependent Relationshi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Humans need animals for food, clothing, and at one time for work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Humans and animals need plants to live.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Used for food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Produce oxygen needed to breathe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</a:rPr>
              <a:t>Interdependent Relationships</a:t>
            </a:r>
            <a:endParaRPr b="0" lang="en-US" sz="40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Plants depend on animals and humans. 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Animals, including humans, give off carbon dioxide that the plants need to live. 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2:57:08Z</dcterms:created>
  <dc:creator>mainrod</dc:creator>
  <dc:description/>
  <dc:language>en-US</dc:language>
  <cp:lastModifiedBy>Alicia Burge</cp:lastModifiedBy>
  <cp:lastPrinted>2010-09-03T15:05:34Z</cp:lastPrinted>
  <dcterms:modified xsi:type="dcterms:W3CDTF">2010-09-07T23:20:17Z</dcterms:modified>
  <cp:revision>26</cp:revision>
  <dc:subject/>
  <dc:title>Environmental Resources Unit A</dc:title>
</cp:coreProperties>
</file>